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DE7-E1F8-4E7D-BF6A-E03E7E89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BFE-7D54-4C53-A0EF-2397DC17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4A8-D445-466E-AC2B-863DCBCB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E27-81C1-403B-B75F-0D11FBD3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D03E-65A3-4A53-9121-C1C60A49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4626-8585-4ECC-85CA-CDD30498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2929-1653-4C6E-9105-CD85492B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060E-AD64-48E9-9061-6870ABD0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4979-6B1E-49DA-962F-C989F39D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FCBD-43F2-44EE-88C3-832C456A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5518-147E-4F0A-85C8-8172FD2A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2C0-621B-4968-A500-14C743B1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13A6-A572-4C92-BE82-A1575E51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D4ED-1DBC-4BE0-8478-E90D3D6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D56C-8849-4A69-8FC1-8D83B63D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95BC-033A-487E-AA1C-2DCF0BA2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ACC2-9160-438B-93F7-84090A92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FFF-DC72-4A03-B422-79B71783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E40-9504-4BE4-8C6A-9F20B869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E24-BA59-4D9E-8B86-044BF991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531-396D-41A9-829A-86104EF8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267-213E-4EE9-8A13-8087034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65C-59DF-4816-A964-7AC7D32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C74-3C7D-479E-BE29-CFC642F8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DEB6-B760-4887-BFBC-6D2EE5E3759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419C-49FE-43BD-B58E-37B52AA177B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</a:t>
            </a:r>
            <a:r>
              <a:rPr b="0" lang="sr-RS" sz="1800" spc="-1" strike="noStrike">
                <a:solidFill>
                  <a:srgbClr val="ffff00"/>
                </a:solidFill>
                <a:latin typeface="Times New Roman"/>
              </a:rPr>
              <a:t>фармац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Основе вештине комун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835280" y="3357720"/>
            <a:ext cx="5545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1. наставна јединица (прва недеља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вод у вештину комуни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879520" y="599760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оф. др Владимир Јањ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07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д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јези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нглески, дански, арапски, али и неки технички или сленг..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рук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оно што желите да кажете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рект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и индирек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р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иректну поруку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ете читати или чути «између редова» и веома често су оне важније од директних порук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нал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начин како шаљете поруку (језиком, говором тела, додиром...)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808200"/>
            <a:ext cx="85690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 муникацију  отежавају лични филтери кој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 блиско повезани са нашом личношћу и прошлошћ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гу се заснивати на нашем искуству, нпр. као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ичности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личних ситуациј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треба да се афирмишемо или страхова од високих или моћних мест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шег васпитања и образовањ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Увек поставите себе на место вашег саговорника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3480" y="1672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иса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ме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наме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) сигнална - симболичк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ред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посредн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ђ) интраперсонална - интерперсоналн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549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ЂУЉУД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орм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                 НЕВЕРБАЛ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р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зичн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лик међуљудск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гласне вер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ц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с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Straight Connector 7"/>
          <p:cNvSpPr/>
          <p:nvPr/>
        </p:nvSpPr>
        <p:spPr>
          <a:xfrm>
            <a:off x="4716360" y="1628640"/>
            <a:ext cx="1008000" cy="576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 flipH="1">
            <a:off x="3419280" y="1628640"/>
            <a:ext cx="1006200" cy="639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8920" y="1714320"/>
            <a:ext cx="8929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новни принципи комуникације на релацији лекар-пацијент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јам емпатије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Зашто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тенцирамо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вештину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 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медицин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спех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нашег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рада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зависи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6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валитета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раћања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шим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ацијентим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радници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и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Book Antiqua"/>
              </a:rPr>
              <a:t>2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валитет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шањ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пособност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познамо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 прихватим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н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што о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жел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општ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спешно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споразумевање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адовољст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ацијенат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vi-VN" sz="2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длучујућ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лог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езбеђивању сарад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чењ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ви утисак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колина  и услови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мбуланта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болесничка соба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ргентни центар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суство других особа,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26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Фактори који утичу на комуникацију од стране пацијен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оматска/психичка боле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ах, бес, стрепња,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бразовање, узра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Фактори који утичу на комуникацију од стране лекар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2876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Ем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дословно уосећавање, уживљавањ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П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роцес непосредног уживљавања у емоционална стања, мишљење и понашање других људ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им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привлачност односно наклоности према некоме или нечему, јавља се спонтано и често је необјашњиво, ирационално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нти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је осећање које може да варира од благе ненаклоности и одбојности до изразите нетрпељивости и одвратности према некој особ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сертивност подразумева директно, јасно и искрено исказивање својих осећања, потреба и ставова особи која својим понашањем крши туђа прав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 је способност супротстављања на неагресиван и неманипулативан начин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00000" y="2133720"/>
            <a:ext cx="77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уникација је елементарна људска активност која је усмерена како према спољашњем свету, тако и према унутрашњем, властитом бић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А АСЕРТИВНА РЕЧЕНИЦА садржи став, чињенцу или опсервацију. То је кратка реченица која исказује потребу или право онога који је изговар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е чујем те добро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метају ми сталне упадице када говори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3. Твој ауто је блокирао мој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33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ЕМПАТИЧКА АСЕРТИВНОСТ садржи емпатију, препознавање стања и осећања друге особе и асертивност, исказивање сопствених потреба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1. Говориш јако тихо. Имам проблем да те чује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2. Видим да те ово што говорим узбуђује, а ја имам потребу да довршим ово што сам почео да говори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3. Извини што прекидам разговор, твој ауто је блокирао мој, а ја морам одмах да крене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04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АСЕРТИВНОСТ КОЈА ТРАЖИ ОДГОВОР је директна порука која садржи нашу потребу и тражи од саговорника да прецизира своје мишљење, став или осећање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Не чујем те, а јако ми је стало да чујем шта говориш. Можеш ли да говориш гласније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Видим да те ово што говорим узбуђује, а потребно ми је још пет минута да довршим. Можеш ли да сачекаш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Видим да прекидам веома интересантан разговор, а твој ауто је блокирао мој. Треба одмах да кренем, можеш ли да пођеш са мном и да га помериш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-27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СЕРТИВНОСТ НЕГАТИВНИХ ОСЕЋАЊА садржи: а) неутралан опис туђег понашања,             б) сопствена осећања у датој ситуацији и                  в) оно што би онај ко говори волео да друга особа уради или конкретни ефекат туђег понашања на особу која говори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Пример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Када ме ти прекинеш док говорим, иритиран сам и плашим се да ћу да изгубим нит, а врло ми је важно да јасно искажем оно што желим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Када твојим аутом блокираш мој, огорчена сам и волела бих да ми кажеш да ли наш договор око паркирања важи и даље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муникација: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преношење и разумевање значења попрука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разме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ус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, k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ј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ућ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вој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ив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ћа;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споразумевање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учинити нешто општим или заједничким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eng. comunity =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заједништво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lat. communis =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заједничко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7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бић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људског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род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рен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Адаптациј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кружењ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услов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пстанк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ема адаптаци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кружењ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са окружењем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904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ти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ош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ран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ли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 почетку се одвијала доминантно невербалн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д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напреди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200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мбо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мишље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30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исм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7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9280" y="1268280"/>
            <a:ext cx="85694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ви тип дефиниција нагласак ставља н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једништво, деље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uni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једнички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unica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лити, учинити заједни- чким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и тип дефиниција наглашавају намеру, утицај, и комуникацију схватају као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говара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односно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беђива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д одређеног броја теоретичара комуникација се види као процес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ношења информ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ске теорије комуникацију посматрају ка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акциј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оја се састоји од интерактивних делова, а која је увек већа од збира својих делов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борав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ђуљудск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а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нос информ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ћ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о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с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вере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же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е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перати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спешни у медици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бар комуникатор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Најбоља ствар комуникације је да не можемо да то престанемо да радимо.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Увек комуницирамо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, чак и онда када не разговарамо или гледамо једни у друге.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Комуникација зависи од особа које комуницирају.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7:57:55Z</dcterms:created>
  <dc:creator>DELL</dc:creator>
  <dc:description/>
  <dc:language>en-US</dc:language>
  <cp:lastModifiedBy>Milanče Sin</cp:lastModifiedBy>
  <dcterms:modified xsi:type="dcterms:W3CDTF">2023-02-04T20:07:43Z</dcterms:modified>
  <cp:revision>39</cp:revision>
  <dc:subject/>
  <dc:title>Slide 1</dc:title>
</cp:coreProperties>
</file>